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03280" y="5229000"/>
            <a:ext cx="640872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02920" y="5876640"/>
            <a:ext cx="6410520" cy="2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402920" y="6190560"/>
            <a:ext cx="6410520" cy="2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03280" y="5229000"/>
            <a:ext cx="640872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2920" y="5876640"/>
            <a:ext cx="3128040" cy="2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7920" y="5876640"/>
            <a:ext cx="3128040" cy="2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2920" y="6190560"/>
            <a:ext cx="3128040" cy="2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7920" y="6190560"/>
            <a:ext cx="3128040" cy="2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03280" y="5229000"/>
            <a:ext cx="640872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2920" y="5876640"/>
            <a:ext cx="2063880" cy="2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70480" y="5876640"/>
            <a:ext cx="2063880" cy="2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37680" y="5876640"/>
            <a:ext cx="2063880" cy="2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402920" y="6190560"/>
            <a:ext cx="2063880" cy="2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70480" y="6190560"/>
            <a:ext cx="2063880" cy="2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37680" y="6190560"/>
            <a:ext cx="2063880" cy="2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3280" y="5229000"/>
            <a:ext cx="640872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2920" y="5876640"/>
            <a:ext cx="64105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03280" y="5229000"/>
            <a:ext cx="640872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02920" y="5876640"/>
            <a:ext cx="64105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5229000"/>
            <a:ext cx="640872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02920" y="5876640"/>
            <a:ext cx="3128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7920" y="5876640"/>
            <a:ext cx="3128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03280" y="5229000"/>
            <a:ext cx="640872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403280" y="5229000"/>
            <a:ext cx="6408720" cy="26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3280" y="5229000"/>
            <a:ext cx="640872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02920" y="5876640"/>
            <a:ext cx="3128040" cy="2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7920" y="5876640"/>
            <a:ext cx="3128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402920" y="6190560"/>
            <a:ext cx="3128040" cy="2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03280" y="5229000"/>
            <a:ext cx="640872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402920" y="5876640"/>
            <a:ext cx="64105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03280" y="5229000"/>
            <a:ext cx="640872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02920" y="5876640"/>
            <a:ext cx="3128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920" y="5876640"/>
            <a:ext cx="3128040" cy="2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7920" y="6190560"/>
            <a:ext cx="3128040" cy="2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03280" y="5229000"/>
            <a:ext cx="640872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02920" y="5876640"/>
            <a:ext cx="3128040" cy="2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7920" y="5876640"/>
            <a:ext cx="3128040" cy="2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02920" y="6190560"/>
            <a:ext cx="6410520" cy="2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03280" y="5229000"/>
            <a:ext cx="640872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2920" y="5876640"/>
            <a:ext cx="6410520" cy="2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402920" y="6190560"/>
            <a:ext cx="6410520" cy="2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03280" y="5229000"/>
            <a:ext cx="640872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2920" y="5876640"/>
            <a:ext cx="3128040" cy="2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7920" y="5876640"/>
            <a:ext cx="3128040" cy="2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02920" y="6190560"/>
            <a:ext cx="3128040" cy="2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7920" y="6190560"/>
            <a:ext cx="3128040" cy="2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03280" y="5229000"/>
            <a:ext cx="640872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02920" y="5876640"/>
            <a:ext cx="2063880" cy="2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70480" y="5876640"/>
            <a:ext cx="2063880" cy="2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37680" y="5876640"/>
            <a:ext cx="2063880" cy="2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402920" y="6190560"/>
            <a:ext cx="2063880" cy="2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70480" y="6190560"/>
            <a:ext cx="2063880" cy="2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737680" y="6190560"/>
            <a:ext cx="2063880" cy="2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03280" y="5229000"/>
            <a:ext cx="640872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402920" y="5876640"/>
            <a:ext cx="64105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03280" y="5229000"/>
            <a:ext cx="640872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02920" y="5876640"/>
            <a:ext cx="3128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7920" y="5876640"/>
            <a:ext cx="3128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03280" y="5229000"/>
            <a:ext cx="640872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403280" y="5229000"/>
            <a:ext cx="6408720" cy="26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03280" y="5229000"/>
            <a:ext cx="640872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2920" y="5876640"/>
            <a:ext cx="3128040" cy="2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7920" y="5876640"/>
            <a:ext cx="3128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402920" y="6190560"/>
            <a:ext cx="3128040" cy="2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03280" y="5229000"/>
            <a:ext cx="640872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02920" y="5876640"/>
            <a:ext cx="3128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920" y="5876640"/>
            <a:ext cx="3128040" cy="2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7920" y="6190560"/>
            <a:ext cx="3128040" cy="2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03280" y="5229000"/>
            <a:ext cx="640872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02920" y="5876640"/>
            <a:ext cx="3128040" cy="2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920" y="5876640"/>
            <a:ext cx="3128040" cy="2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02920" y="6190560"/>
            <a:ext cx="6410520" cy="2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3600" cy="1474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23640" y="2276280"/>
            <a:ext cx="85230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380280"/>
            <a:ext cx="9183600" cy="476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-34920"/>
            <a:ext cx="9242280" cy="69105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03280" y="5229000"/>
            <a:ext cx="640872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76360" y="4941360"/>
            <a:ext cx="640872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Innovation and Excellence –Teaching and Learning Coache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and Ultranet Trainer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047760" y="4419720"/>
            <a:ext cx="5562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0000"/>
                </a:solidFill>
                <a:latin typeface="Arial"/>
              </a:rPr>
              <a:t>Professional Development of Coa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133720"/>
            <a:ext cx="4427640" cy="3673440"/>
          </a:xfrm>
          <a:prstGeom prst="irregularSeal2">
            <a:avLst/>
          </a:prstGeom>
          <a:solidFill>
            <a:srgbClr val="3c29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0e874"/>
                </a:solidFill>
                <a:latin typeface="Arial"/>
              </a:rPr>
              <a:t>8-10 d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0e874"/>
                </a:solidFill>
                <a:latin typeface="Arial"/>
              </a:rPr>
              <a:t>of profess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0e874"/>
                </a:solidFill>
                <a:latin typeface="Arial"/>
              </a:rPr>
              <a:t>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0e874"/>
                </a:solidFill>
                <a:latin typeface="Arial"/>
              </a:rPr>
              <a:t>prov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0e874"/>
                </a:solidFill>
                <a:latin typeface="Arial"/>
              </a:rPr>
              <a:t>by the 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716360" y="1989000"/>
            <a:ext cx="4680000" cy="3672000"/>
          </a:xfrm>
          <a:prstGeom prst="irregularSeal2">
            <a:avLst/>
          </a:prstGeom>
          <a:solidFill>
            <a:srgbClr val="e143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d5d5"/>
                </a:solidFill>
                <a:latin typeface="Arial"/>
              </a:rPr>
              <a:t>Approx 3 d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d5d5"/>
                </a:solidFill>
                <a:latin typeface="Arial"/>
              </a:rPr>
              <a:t>of in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d5d5"/>
                </a:solidFill>
                <a:latin typeface="Arial"/>
              </a:rPr>
              <a:t>and 7 days of 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d5d5"/>
                </a:solidFill>
                <a:latin typeface="Arial"/>
              </a:rPr>
              <a:t>provid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d5d5"/>
                </a:solidFill>
                <a:latin typeface="Arial"/>
              </a:rPr>
              <a:t>SM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3640" y="4941720"/>
            <a:ext cx="3600360" cy="1368720"/>
          </a:xfrm>
          <a:custGeom>
            <a:avLst/>
            <a:gdLst>
              <a:gd name="textAreaLeft" fmla="*/ 0 w 3600360"/>
              <a:gd name="textAreaRight" fmla="*/ 3600720 w 3600360"/>
              <a:gd name="textAreaTop" fmla="*/ 177120 h 1368720"/>
              <a:gd name="textAreaBottom" fmla="*/ 1191600 h 1368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197d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0e874"/>
                </a:solidFill>
                <a:latin typeface="Arial"/>
              </a:rPr>
              <a:t>Some PD will 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0e874"/>
                </a:solidFill>
                <a:latin typeface="Arial"/>
              </a:rPr>
              <a:t>during school holi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0000"/>
                </a:solidFill>
                <a:latin typeface="Arial"/>
              </a:rPr>
              <a:t>Management of Coa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03280" y="2133720"/>
            <a:ext cx="6048360" cy="630000"/>
          </a:xfrm>
          <a:prstGeom prst="rect">
            <a:avLst/>
          </a:prstGeom>
          <a:solidFill>
            <a:srgbClr val="ffe4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 overseen by SDU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27640" y="2781360"/>
            <a:ext cx="0" cy="718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24720" y="3500280"/>
            <a:ext cx="0" cy="792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03280" y="3500280"/>
            <a:ext cx="6121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4292640"/>
            <a:ext cx="410508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ub Region Management Team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Os / Network Chairs / SDU Staff Member / 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4292640"/>
            <a:ext cx="4041720" cy="1368360"/>
          </a:xfrm>
          <a:prstGeom prst="rect">
            <a:avLst/>
          </a:prstGeom>
          <a:solidFill>
            <a:srgbClr val="e8d1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ltranet Manag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kely to have a central 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–</a:t>
            </a:r>
            <a:r>
              <a:rPr b="1" lang="en-US" sz="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so managed in the Sub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03280" y="3500280"/>
            <a:ext cx="0" cy="792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4360" y="245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4360" y="245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67640" y="2349360"/>
            <a:ext cx="1297080" cy="1191240"/>
          </a:xfrm>
          <a:prstGeom prst="rect">
            <a:avLst/>
          </a:prstGeom>
          <a:solidFill>
            <a:srgbClr val="a3f7a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Program focus + area 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0000"/>
                </a:solidFill>
                <a:latin typeface="Arial"/>
              </a:rPr>
              <a:t>Management of Coa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54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95280" y="2133720"/>
          <a:ext cx="8209080" cy="3887640"/>
        </p:xfrm>
        <a:graphic>
          <a:graphicData uri="http://schemas.openxmlformats.org/drawingml/2006/table">
            <a:tbl>
              <a:tblPr/>
              <a:tblGrid>
                <a:gridCol w="2716200"/>
                <a:gridCol w="5492880"/>
              </a:tblGrid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a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onsible F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afa"/>
                    </a:solidFill>
                  </a:tcPr>
                </a:tc>
              </a:tr>
              <a:tr h="100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- Region Management Te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gram of interventions by coach across the sub-reg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ountability of the coach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afa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am Lea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y to day issues including location, travel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af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U Mana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fessional development and overall team meet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afa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e School Princip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cilities (such as desk, computer, etc), salary payment, CASES and HRMS ent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afa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0" y="431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0000"/>
                </a:solidFill>
                <a:latin typeface="Arial"/>
              </a:rPr>
              <a:t>Flow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00720" y="2276640"/>
            <a:ext cx="1944360" cy="1871640"/>
          </a:xfrm>
          <a:prstGeom prst="rect">
            <a:avLst/>
          </a:prstGeom>
          <a:solidFill>
            <a:srgbClr val="68ccf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Does the sch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have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capacity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impro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2276640"/>
            <a:ext cx="1655640" cy="1871640"/>
          </a:xfrm>
          <a:prstGeom prst="rect">
            <a:avLst/>
          </a:prstGeom>
          <a:solidFill>
            <a:srgbClr val="68ccf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What are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areas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can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improv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40000" y="2276640"/>
            <a:ext cx="1727280" cy="1871640"/>
          </a:xfrm>
          <a:prstGeom prst="rect">
            <a:avLst/>
          </a:prstGeom>
          <a:solidFill>
            <a:srgbClr val="68ccf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What data 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we have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how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ne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impro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08000" y="2781360"/>
            <a:ext cx="432000" cy="93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67280" y="2781360"/>
            <a:ext cx="431640" cy="93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77080" y="2276640"/>
            <a:ext cx="1871640" cy="1871640"/>
          </a:xfrm>
          <a:prstGeom prst="rect">
            <a:avLst/>
          </a:prstGeom>
          <a:solidFill>
            <a:srgbClr val="68ccf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Which co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is m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appropr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for the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and the issu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77080" y="4581360"/>
            <a:ext cx="1871640" cy="1584360"/>
          </a:xfrm>
          <a:prstGeom prst="rect">
            <a:avLst/>
          </a:prstGeom>
          <a:solidFill>
            <a:srgbClr val="68ccf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What is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ime frame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improve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00720" y="4581360"/>
            <a:ext cx="1942920" cy="1584360"/>
          </a:xfrm>
          <a:prstGeom prst="rect">
            <a:avLst/>
          </a:prstGeom>
          <a:solidFill>
            <a:srgbClr val="68ccf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What data 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be col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o show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improve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40000" y="4581360"/>
            <a:ext cx="1727280" cy="1584360"/>
          </a:xfrm>
          <a:prstGeom prst="rect">
            <a:avLst/>
          </a:prstGeom>
          <a:solidFill>
            <a:srgbClr val="68ccf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Memorand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Underst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4581360"/>
            <a:ext cx="1657080" cy="1584360"/>
          </a:xfrm>
          <a:prstGeom prst="rect">
            <a:avLst/>
          </a:prstGeom>
          <a:solidFill>
            <a:srgbClr val="68ccf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Coach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choo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43640" y="2781360"/>
            <a:ext cx="432000" cy="93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6443640" y="4797360"/>
            <a:ext cx="432000" cy="93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908000" y="4869000"/>
            <a:ext cx="432000" cy="93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066560" y="4869000"/>
            <a:ext cx="431640" cy="93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rot="16200000">
            <a:off x="7560360" y="3897720"/>
            <a:ext cx="431640" cy="93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b01c27"/>
                </a:solidFill>
                <a:latin typeface="Arial"/>
              </a:rPr>
              <a:t>Key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85230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c29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3c29c9"/>
                </a:solidFill>
                <a:latin typeface="Arial"/>
              </a:rPr>
              <a:t>Schools need to have the capacity to have a coac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c29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3c29c9"/>
                </a:solidFill>
                <a:latin typeface="Arial"/>
              </a:rPr>
              <a:t>The Principal must actively support the progra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c29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3c29c9"/>
                </a:solidFill>
                <a:latin typeface="Arial"/>
              </a:rPr>
              <a:t>The coach is to be supported by the schoo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c29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3c29c9"/>
                </a:solidFill>
                <a:latin typeface="Arial"/>
              </a:rPr>
              <a:t>An MOU will be in place for each schoo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c29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3c29c9"/>
                </a:solidFill>
                <a:latin typeface="Arial"/>
              </a:rPr>
              <a:t>The school will provide any materials required in the progra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c29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3c29c9"/>
                </a:solidFill>
                <a:latin typeface="Arial"/>
              </a:rPr>
              <a:t>PD will be paid for by the school/Region depending on what it 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b01c27"/>
                </a:solidFill>
                <a:latin typeface="Arial"/>
              </a:rPr>
              <a:t>Key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85230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c29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3c29c9"/>
                </a:solidFill>
                <a:latin typeface="Arial"/>
              </a:rPr>
              <a:t>The school will need to know the data they wish to improv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c29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3c29c9"/>
                </a:solidFill>
                <a:latin typeface="Arial"/>
              </a:rPr>
              <a:t>Data is to be made available to the coac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c29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3c29c9"/>
                </a:solidFill>
                <a:latin typeface="Arial"/>
              </a:rPr>
              <a:t>If problems occur, see your team leader asa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c29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3c29c9"/>
                </a:solidFill>
                <a:latin typeface="Arial"/>
              </a:rPr>
              <a:t>The team leader and the SEO will address problems with the schoo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c29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3c29c9"/>
                </a:solidFill>
                <a:latin typeface="Arial"/>
              </a:rPr>
              <a:t>Team meetings will be conducted regularly by the team leader and/or the SD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0000"/>
                </a:solidFill>
                <a:latin typeface="Arial"/>
              </a:rPr>
              <a:t>Managing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3703680" cy="4032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rcRect l="0" t="7695" r="0" b="1520"/>
          <a:stretch/>
        </p:blipFill>
        <p:spPr>
          <a:xfrm>
            <a:off x="4932360" y="1484280"/>
            <a:ext cx="37940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826920" y="1482840"/>
            <a:ext cx="7921800" cy="49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0000"/>
                </a:solidFill>
                <a:latin typeface="Arial"/>
              </a:rPr>
              <a:t>Links to Strategic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948360" y="3284640"/>
            <a:ext cx="1946520" cy="2376360"/>
          </a:xfrm>
          <a:prstGeom prst="rect">
            <a:avLst/>
          </a:prstGeom>
          <a:solidFill>
            <a:srgbClr val="68ccf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Innov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Excel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16360" y="3284640"/>
            <a:ext cx="1943280" cy="2376360"/>
          </a:xfrm>
          <a:prstGeom prst="rect">
            <a:avLst/>
          </a:prstGeom>
          <a:solidFill>
            <a:srgbClr val="68ccf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Memorand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Underst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84360" y="3284640"/>
            <a:ext cx="1943280" cy="2376360"/>
          </a:xfrm>
          <a:prstGeom prst="rect">
            <a:avLst/>
          </a:prstGeom>
          <a:solidFill>
            <a:srgbClr val="68ccf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Ann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3284640"/>
            <a:ext cx="1944720" cy="2376360"/>
          </a:xfrm>
          <a:prstGeom prst="rect">
            <a:avLst/>
          </a:prstGeom>
          <a:solidFill>
            <a:srgbClr val="68ccf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trate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635280" y="2491560"/>
            <a:ext cx="2305080" cy="792360"/>
          </a:xfrm>
          <a:custGeom>
            <a:avLst/>
            <a:gdLst>
              <a:gd name="textAreaLeft" fmla="*/ 403200 w 2305080"/>
              <a:gd name="textAreaRight" fmla="*/ 1671120 w 2305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940360" y="2491560"/>
            <a:ext cx="2305080" cy="792360"/>
          </a:xfrm>
          <a:custGeom>
            <a:avLst/>
            <a:gdLst>
              <a:gd name="textAreaLeft" fmla="*/ 403200 w 2305080"/>
              <a:gd name="textAreaRight" fmla="*/ 1671120 w 2305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332000" y="2491560"/>
            <a:ext cx="2305080" cy="792360"/>
          </a:xfrm>
          <a:custGeom>
            <a:avLst/>
            <a:gdLst>
              <a:gd name="textAreaLeft" fmla="*/ 403200 w 2305080"/>
              <a:gd name="textAreaRight" fmla="*/ 1671120 w 2305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0000"/>
                </a:solidFill>
                <a:latin typeface="Arial"/>
              </a:rPr>
              <a:t>Sub-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3640" y="4005000"/>
            <a:ext cx="85230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9280" y="2205000"/>
            <a:ext cx="8964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055a4"/>
                </a:solidFill>
                <a:latin typeface="Arial"/>
              </a:rPr>
              <a:t>In 2008, the Innovation and Excellence Program in SMR will operate out of three sub-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3284640"/>
            <a:ext cx="2592360" cy="2881080"/>
          </a:xfrm>
          <a:prstGeom prst="rect">
            <a:avLst/>
          </a:prstGeom>
          <a:solidFill>
            <a:srgbClr val="68ccf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b01c27"/>
                </a:solidFill>
                <a:latin typeface="Arial"/>
              </a:rPr>
              <a:t>I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b01c27"/>
                </a:solidFill>
                <a:latin typeface="Arial"/>
              </a:rPr>
              <a:t>Sub-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Bayside, Kings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Glen Eira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Inner Sou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76720" y="3284640"/>
            <a:ext cx="2663640" cy="2881080"/>
          </a:xfrm>
          <a:prstGeom prst="rect">
            <a:avLst/>
          </a:prstGeom>
          <a:solidFill>
            <a:srgbClr val="68ccf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b01c27"/>
                </a:solidFill>
                <a:latin typeface="Arial"/>
              </a:rPr>
              <a:t>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b01c27"/>
                </a:solidFill>
                <a:latin typeface="Arial"/>
              </a:rPr>
              <a:t>Sub-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Berwick, Cranbour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Dandenong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pringv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00720" y="3284640"/>
            <a:ext cx="2592360" cy="2881080"/>
          </a:xfrm>
          <a:prstGeom prst="rect">
            <a:avLst/>
          </a:prstGeom>
          <a:solidFill>
            <a:srgbClr val="68ccf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b01c27"/>
                </a:solidFill>
                <a:latin typeface="Arial"/>
              </a:rPr>
              <a:t>Penins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b01c27"/>
                </a:solidFill>
                <a:latin typeface="Arial"/>
              </a:rPr>
              <a:t>Sub-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Frankston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Morning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b01c27"/>
                </a:solidFill>
                <a:latin typeface="Arial"/>
              </a:rPr>
              <a:t>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85230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c29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c29c9"/>
                </a:solidFill>
                <a:latin typeface="Arial"/>
              </a:rPr>
              <a:t>This is an exciting program which will make a difference in schools and in classro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c29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c29c9"/>
                </a:solidFill>
                <a:latin typeface="Arial"/>
              </a:rPr>
              <a:t>We need it to make a significant difference – our students are relying on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c29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c29c9"/>
                </a:solidFill>
                <a:latin typeface="Arial"/>
              </a:rPr>
              <a:t>Times are changing but many classrooms are not – we need to be a conduit of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c29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c29c9"/>
                </a:solidFill>
                <a:latin typeface="Arial"/>
              </a:rPr>
              <a:t>We need to coach teachers so that their students learn how to enquire, think, research and become a part of our modern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0000"/>
                </a:solidFill>
                <a:latin typeface="Arial"/>
              </a:rPr>
              <a:t>The 2008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85230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95280" y="2205000"/>
          <a:ext cx="8353080" cy="3600360"/>
        </p:xfrm>
        <a:graphic>
          <a:graphicData uri="http://schemas.openxmlformats.org/drawingml/2006/table">
            <a:tbl>
              <a:tblPr/>
              <a:tblGrid>
                <a:gridCol w="1931400"/>
                <a:gridCol w="1285200"/>
                <a:gridCol w="1283040"/>
                <a:gridCol w="1285200"/>
                <a:gridCol w="1285200"/>
                <a:gridCol w="1283040"/>
              </a:tblGrid>
              <a:tr h="65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a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hools 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a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a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ondar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a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e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a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afa"/>
                    </a:solidFill>
                  </a:tcPr>
                </a:tc>
              </a:tr>
              <a:tr h="97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yside, Glen Eira, Inner Sth &amp; Kings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a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4000" spc="-1" strike="noStrike">
                          <a:solidFill>
                            <a:srgbClr val="1055a4"/>
                          </a:solidFill>
                          <a:latin typeface="Times New Roman"/>
                          <a:ea typeface="Times New Roman"/>
                        </a:rPr>
                        <a:t>80*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4000" spc="-1" strike="noStrike">
                          <a:solidFill>
                            <a:srgbClr val="1055a4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4000" spc="-1" strike="noStrike">
                          <a:solidFill>
                            <a:srgbClr val="1055a4"/>
                          </a:solidFill>
                          <a:latin typeface="Times New Roman"/>
                          <a:ea typeface="Times New Roman"/>
                        </a:rPr>
                        <a:t>17*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4000" spc="-1" strike="noStrike">
                          <a:solidFill>
                            <a:srgbClr val="1055a4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4000" spc="-1" strike="noStrike">
                          <a:solidFill>
                            <a:srgbClr val="1055a4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5d5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ankston &amp; Morning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a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4000" spc="-1" strike="noStrike">
                          <a:solidFill>
                            <a:srgbClr val="1055a4"/>
                          </a:solidFill>
                          <a:latin typeface="Times New Roman"/>
                          <a:ea typeface="Times New Roman"/>
                        </a:rPr>
                        <a:t>73*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4000" spc="-1" strike="noStrike">
                          <a:solidFill>
                            <a:srgbClr val="1055a4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4000" spc="-1" strike="noStrike">
                          <a:solidFill>
                            <a:srgbClr val="1055a4"/>
                          </a:solidFill>
                          <a:latin typeface="Times New Roman"/>
                          <a:ea typeface="Times New Roman"/>
                        </a:rPr>
                        <a:t>13*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4000" spc="-1" strike="noStrike">
                          <a:solidFill>
                            <a:srgbClr val="1055a4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4000" spc="-1" strike="noStrike">
                          <a:solidFill>
                            <a:srgbClr val="1055a4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5d5"/>
                    </a:solidFill>
                  </a:tcPr>
                </a:tc>
              </a:tr>
              <a:tr h="12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rwick, Cranbourne, Dandenong &amp; Springv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a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4000" spc="-1" strike="noStrike">
                          <a:solidFill>
                            <a:srgbClr val="1055a4"/>
                          </a:solidFill>
                          <a:latin typeface="Times New Roman"/>
                          <a:ea typeface="Times New Roman"/>
                        </a:rPr>
                        <a:t>103*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4000" spc="-1" strike="noStrike">
                          <a:solidFill>
                            <a:srgbClr val="1055a4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4000" spc="-1" strike="noStrike">
                          <a:solidFill>
                            <a:srgbClr val="1055a4"/>
                          </a:solidFill>
                          <a:latin typeface="Times New Roman"/>
                          <a:ea typeface="Times New Roman"/>
                        </a:rPr>
                        <a:t>21**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4000" spc="-1" strike="noStrike">
                          <a:solidFill>
                            <a:srgbClr val="1055a4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4000" spc="-1" strike="noStrike">
                          <a:solidFill>
                            <a:srgbClr val="1055a4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5d5"/>
                    </a:solidFill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0" y="459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0000"/>
                </a:solidFill>
                <a:latin typeface="Arial"/>
              </a:rPr>
              <a:t>The 2008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60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95280" y="2349360"/>
          <a:ext cx="8064360" cy="3354480"/>
        </p:xfrm>
        <a:graphic>
          <a:graphicData uri="http://schemas.openxmlformats.org/drawingml/2006/table">
            <a:tbl>
              <a:tblPr/>
              <a:tblGrid>
                <a:gridCol w="2497320"/>
                <a:gridCol w="1476360"/>
                <a:gridCol w="1347480"/>
                <a:gridCol w="1346400"/>
                <a:gridCol w="1396800"/>
              </a:tblGrid>
              <a:tr h="89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a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a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F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a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h Meth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a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IM Maths Year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afa"/>
                    </a:solidFill>
                  </a:tcPr>
                </a:tc>
              </a:tr>
              <a:tr h="89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yside, Glen Eira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ner Sth &amp; Kings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a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7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5d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ankston &amp; Morning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a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7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5d5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rwick, Cranbourne, Dandenong &amp; Springv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a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9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5d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0000"/>
                </a:solidFill>
                <a:latin typeface="Arial"/>
              </a:rPr>
              <a:t>The 2008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00" y="18453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39640" y="2133720"/>
          <a:ext cx="7993080" cy="4174920"/>
        </p:xfrm>
        <a:graphic>
          <a:graphicData uri="http://schemas.openxmlformats.org/drawingml/2006/table">
            <a:tbl>
              <a:tblPr/>
              <a:tblGrid>
                <a:gridCol w="3530880"/>
                <a:gridCol w="490320"/>
                <a:gridCol w="397188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nner Sub-Reg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yside, Kingston, Glen Eira, Inner So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a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ludes 2 Ultranet, 1 Youth Commi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5d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Peninsula Sub-Region</a:t>
                      </a: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rankston, Morningt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a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ludes 2 Ultranet, 1 Youth Commitme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5d5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Outer Sub-Region</a:t>
                      </a: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rwick, Cranbourne, Springvale, Danden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a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ludes 3 Ultranet, 1 Youth Commitme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5d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a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en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5d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ecialist Schoo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a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aching and Lea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5d5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a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5d5"/>
                    </a:solidFill>
                  </a:tcPr>
                </a:tc>
              </a:tr>
              <a:tr h="44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a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5d5"/>
                    </a:solidFill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0" y="501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03280" y="5229000"/>
            <a:ext cx="640872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Innovation and Excellence – Teaching and Learning Coaches and Ultranet Tr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3047760" y="4419720"/>
            <a:ext cx="5562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6019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85230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e currently have educators associated with each school in SM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1055a4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1055a4"/>
                </a:solidFill>
                <a:latin typeface="Arial"/>
              </a:rPr>
              <a:t>Bayside –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1055a4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1055a4"/>
                </a:solidFill>
                <a:latin typeface="Arial"/>
              </a:rPr>
              <a:t>Berwick –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1055a4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1055a4"/>
                </a:solidFill>
                <a:latin typeface="Arial"/>
              </a:rPr>
              <a:t>Cranbourne –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1055a4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1055a4"/>
                </a:solidFill>
                <a:latin typeface="Arial"/>
              </a:rPr>
              <a:t>Dandenong –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1055a4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1055a4"/>
                </a:solidFill>
                <a:latin typeface="Arial"/>
              </a:rPr>
              <a:t>Frankston –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1055a4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1055a4"/>
                </a:solidFill>
                <a:latin typeface="Arial"/>
              </a:rPr>
              <a:t>Glen Eira –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1055a4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1055a4"/>
                </a:solidFill>
                <a:latin typeface="Arial"/>
              </a:rPr>
              <a:t>Kingston –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1055a4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1055a4"/>
                </a:solidFill>
                <a:latin typeface="Arial"/>
              </a:rPr>
              <a:t>Inner South –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1055a4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1055a4"/>
                </a:solidFill>
                <a:latin typeface="Arial"/>
              </a:rPr>
              <a:t>Mornington –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1055a4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1055a4"/>
                </a:solidFill>
                <a:latin typeface="Arial"/>
              </a:rPr>
              <a:t>Springvale –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557360"/>
            <a:ext cx="85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155736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0000"/>
                </a:solidFill>
                <a:latin typeface="Arial"/>
              </a:rPr>
              <a:t>The Previous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148360" y="3213000"/>
            <a:ext cx="3384360" cy="1384200"/>
          </a:xfrm>
          <a:prstGeom prst="rect">
            <a:avLst/>
          </a:prstGeom>
          <a:solidFill>
            <a:srgbClr val="c2ea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Arial"/>
              </a:rPr>
              <a:t>Distribution is approximately equal for all schoo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Arial"/>
              </a:rPr>
              <a:t>Total educators = </a:t>
            </a:r>
            <a:r>
              <a:rPr b="1" lang="en-AU" sz="3200" spc="-1" strike="noStrike">
                <a:solidFill>
                  <a:srgbClr val="1055a4"/>
                </a:solidFill>
                <a:latin typeface="Arial"/>
              </a:rPr>
              <a:t>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0000"/>
                </a:solidFill>
                <a:latin typeface="Arial"/>
              </a:rPr>
              <a:t>The 2008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85230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055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1055a4"/>
                </a:solidFill>
                <a:latin typeface="Arial"/>
              </a:rPr>
              <a:t> </a:t>
            </a:r>
            <a:r>
              <a:rPr b="1" lang="en-AU" sz="2800" spc="-1" strike="noStrike">
                <a:solidFill>
                  <a:srgbClr val="1055a4"/>
                </a:solidFill>
                <a:latin typeface="Arial"/>
              </a:rPr>
              <a:t>In SMR, coaches will focus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055a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1055a4"/>
                </a:solidFill>
                <a:latin typeface="Arial"/>
              </a:rPr>
              <a:t>Maths and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055a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1055a4"/>
                </a:solidFill>
                <a:latin typeface="Arial"/>
              </a:rPr>
              <a:t>School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055a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1055a4"/>
                </a:solidFill>
                <a:latin typeface="Arial"/>
              </a:rPr>
              <a:t>Youth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055a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1055a4"/>
                </a:solidFill>
                <a:latin typeface="Arial"/>
              </a:rPr>
              <a:t>Building teacher and school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055a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1055a4"/>
                </a:solidFill>
                <a:latin typeface="Arial"/>
              </a:rPr>
              <a:t>The Ultra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055a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1055a4"/>
                </a:solidFill>
                <a:latin typeface="Arial"/>
              </a:rPr>
              <a:t>Regeneratio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0000"/>
                </a:solidFill>
                <a:latin typeface="Arial"/>
              </a:rPr>
              <a:t>The 2008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3640" y="2060280"/>
            <a:ext cx="85230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2637000"/>
            <a:ext cx="3313080" cy="368280"/>
          </a:xfrm>
          <a:prstGeom prst="rect">
            <a:avLst/>
          </a:prstGeom>
          <a:solidFill>
            <a:srgbClr val="ffd5d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Ultra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3357720"/>
            <a:ext cx="3313080" cy="368280"/>
          </a:xfrm>
          <a:prstGeom prst="rect">
            <a:avLst/>
          </a:prstGeom>
          <a:solidFill>
            <a:srgbClr val="ffd5d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chool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16360" y="3141720"/>
            <a:ext cx="3743280" cy="368280"/>
          </a:xfrm>
          <a:prstGeom prst="rect">
            <a:avLst/>
          </a:prstGeom>
          <a:solidFill>
            <a:srgbClr val="c2ea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ths and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16360" y="3716280"/>
            <a:ext cx="3743280" cy="368280"/>
          </a:xfrm>
          <a:prstGeom prst="rect">
            <a:avLst/>
          </a:prstGeom>
          <a:solidFill>
            <a:srgbClr val="c2ea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eacher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16360" y="4292640"/>
            <a:ext cx="3743280" cy="368280"/>
          </a:xfrm>
          <a:prstGeom prst="rect">
            <a:avLst/>
          </a:prstGeom>
          <a:solidFill>
            <a:srgbClr val="c2ea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mproving Student 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16360" y="4581360"/>
            <a:ext cx="36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16360" y="4869000"/>
            <a:ext cx="3743280" cy="368280"/>
          </a:xfrm>
          <a:prstGeom prst="rect">
            <a:avLst/>
          </a:prstGeom>
          <a:solidFill>
            <a:srgbClr val="c2ea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pecialist Schools T &amp;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16360" y="5445000"/>
            <a:ext cx="3743280" cy="368280"/>
          </a:xfrm>
          <a:prstGeom prst="rect">
            <a:avLst/>
          </a:prstGeom>
          <a:solidFill>
            <a:srgbClr val="c2ea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Youth Commitment – Later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16360" y="2565360"/>
            <a:ext cx="3743280" cy="368280"/>
          </a:xfrm>
          <a:prstGeom prst="rect">
            <a:avLst/>
          </a:prstGeom>
          <a:solidFill>
            <a:srgbClr val="c2ea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generation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2637000"/>
            <a:ext cx="0" cy="3168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5640" y="2565360"/>
            <a:ext cx="505080" cy="503280"/>
          </a:xfrm>
          <a:prstGeom prst="rightArrow">
            <a:avLst>
              <a:gd name="adj1" fmla="val 50000"/>
              <a:gd name="adj2" fmla="val 2508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95640" y="3284640"/>
            <a:ext cx="505080" cy="503280"/>
          </a:xfrm>
          <a:prstGeom prst="rightArrow">
            <a:avLst>
              <a:gd name="adj1" fmla="val 50000"/>
              <a:gd name="adj2" fmla="val 2508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3789360"/>
            <a:ext cx="4103640" cy="2592360"/>
          </a:xfrm>
          <a:prstGeom prst="irregularSeal2">
            <a:avLst/>
          </a:prstGeom>
          <a:solidFill>
            <a:srgbClr val="8df78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0000"/>
                </a:solidFill>
                <a:latin typeface="Arial"/>
              </a:rPr>
              <a:t>Major Foc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AU" sz="2000" spc="-1" strike="noStrike">
                <a:solidFill>
                  <a:srgbClr val="ff0000"/>
                </a:solidFill>
                <a:latin typeface="Arial"/>
              </a:rPr>
              <a:t>Maths and Sci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0000"/>
                </a:solidFill>
                <a:latin typeface="Arial"/>
              </a:rPr>
              <a:t>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0000"/>
                </a:solidFill>
                <a:latin typeface="Arial"/>
              </a:rPr>
              <a:t>Accountabilities – Teaching &amp; Learning Coach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8920" y="2133360"/>
            <a:ext cx="866772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1055a4"/>
                </a:solidFill>
                <a:latin typeface="Arial"/>
              </a:rPr>
              <a:t>To coach and mentor teachers in a one-to-one situ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1055a4"/>
                </a:solidFill>
                <a:latin typeface="Arial"/>
              </a:rPr>
              <a:t>To build teachers’ disciplinary and pedagogical content knowledge and their repertoire of high quality teaching practi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1055a4"/>
                </a:solidFill>
                <a:latin typeface="Arial"/>
              </a:rPr>
              <a:t>To collaborate with teachers to plan and deliver curriculum and to provide feedback on the quality of curriculum deliver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1055a4"/>
                </a:solidFill>
                <a:latin typeface="Arial"/>
              </a:rPr>
              <a:t>To support teachers to implement differentiation of curriculum to meet the diverse needs of students in their cla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1055a4"/>
                </a:solidFill>
                <a:latin typeface="Arial"/>
              </a:rPr>
              <a:t>To support teachers to develop rich assessment tasks and to utilise data effectively to inform curriculum planning and delivery and to monitor student learning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1055a4"/>
                </a:solidFill>
                <a:latin typeface="Arial"/>
              </a:rPr>
              <a:t>To promote and implement existing DEECD policy and resour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1055a4"/>
                </a:solidFill>
                <a:latin typeface="Arial"/>
              </a:rPr>
              <a:t>To assist participating schools to implement practices that sustain improvement beyond the funded period of the initiati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0000"/>
                </a:solidFill>
                <a:latin typeface="Arial"/>
              </a:rPr>
              <a:t>Accountabilities – Ultranet Coa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2205000"/>
            <a:ext cx="9144000" cy="38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1055a4"/>
                </a:solidFill>
                <a:latin typeface="Arial"/>
              </a:rPr>
              <a:t>To deliver high quality role based training to Ultranet users across the region including Principals, teachers, SSOs, regional and central office personn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1055a4"/>
                </a:solidFill>
                <a:latin typeface="Arial"/>
              </a:rPr>
              <a:t>To work directly with the Ultranet System Integrator learning how to effectively use the Ultranet system as a Super User in role based train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1055a4"/>
                </a:solidFill>
                <a:latin typeface="Arial"/>
              </a:rPr>
              <a:t>To monitor effectiveness of training delivery and provision of support and to use this knowledge to improve on future delivery of trai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1055a4"/>
                </a:solidFill>
                <a:latin typeface="Arial"/>
              </a:rPr>
              <a:t>To provide high level support for the DoE Ultranet through provision of appropriate processes and activities in an efficient and timely mann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1055a4"/>
                </a:solidFill>
                <a:latin typeface="Arial"/>
              </a:rPr>
              <a:t>To work collaboratively as part of a team in delivering training about the Ultran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3640" y="1413000"/>
            <a:ext cx="85230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0000"/>
                </a:solidFill>
                <a:latin typeface="Arial"/>
              </a:rPr>
              <a:t>Employment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3640" y="2060280"/>
            <a:ext cx="85230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49"/>
              </a:spcBef>
              <a:buClr>
                <a:srgbClr val="0d81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d81af"/>
                </a:solidFill>
                <a:latin typeface="Arial"/>
              </a:rPr>
              <a:t>Teaching and Learning Coaches and Ultranet Trainers - LT1 salary – Salary Maintenan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49"/>
              </a:spcBef>
              <a:buClr>
                <a:srgbClr val="0d81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d81af"/>
                </a:solidFill>
                <a:latin typeface="Arial"/>
              </a:rPr>
              <a:t>The Team Leaders - AP1 salary – paid as higher duties (Julie, Leonie, David, Angelik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49"/>
              </a:spcBef>
              <a:buClr>
                <a:srgbClr val="0d81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d81af"/>
                </a:solidFill>
                <a:latin typeface="Arial"/>
              </a:rPr>
              <a:t>There will be four team leaders across the Reg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49"/>
              </a:spcBef>
              <a:buClr>
                <a:srgbClr val="0d81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d81af"/>
                </a:solidFill>
                <a:latin typeface="Arial"/>
              </a:rPr>
              <a:t>At the end of the 2 years, the coaches and trainers will return to their school unless the program is rolled ov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49"/>
              </a:spcBef>
              <a:buClr>
                <a:srgbClr val="0d81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d81af"/>
                </a:solidFill>
                <a:latin typeface="Arial"/>
              </a:rPr>
              <a:t>Two to four or more coaches at a base scho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49"/>
              </a:spcBef>
              <a:buClr>
                <a:srgbClr val="0d81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d81af"/>
                </a:solidFill>
                <a:latin typeface="Arial"/>
              </a:rPr>
              <a:t>All coaches will be paid from SMR – Greg Ivill is the reference for HR iss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d81a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b01c27"/>
                </a:solidFill>
                <a:latin typeface="Arial"/>
              </a:rPr>
              <a:t>Laptops and Ph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85230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29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c29c9"/>
                </a:solidFill>
                <a:latin typeface="Arial"/>
              </a:rPr>
              <a:t>These will be provided to coaches and tr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29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c29c9"/>
                </a:solidFill>
                <a:latin typeface="Arial"/>
              </a:rPr>
              <a:t>Keep your notebook until the new one arriv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29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c29c9"/>
                </a:solidFill>
                <a:latin typeface="Arial"/>
              </a:rPr>
              <a:t>Mobiles available from day 1 from SM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1T00:38:09Z</dcterms:created>
  <dc:creator>administrator</dc:creator>
  <dc:description/>
  <dc:language>en-US</dc:language>
  <cp:lastModifiedBy>Bob Stephens</cp:lastModifiedBy>
  <dcterms:modified xsi:type="dcterms:W3CDTF">2007-12-20T10:54:19Z</dcterms:modified>
  <cp:revision>38</cp:revision>
  <dc:subject/>
  <dc:title>Slide 1</dc:title>
</cp:coreProperties>
</file>